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E7E-21D9-4EFE-A379-D2E37E76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227-EC6C-4926-A57D-355A0C0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8312A-7432-4DC2-8786-9AD1EFF2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C027E-E890-49C5-A316-FBFD8C9A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B69CD-C727-4103-BD57-1A8F648B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90269-76C9-4E39-A009-437911C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BAC22-7DA7-4435-9F5D-9D47E8BD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5C9E6-D2D8-4AD5-841A-C5820EB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210C5-A779-4A41-8AEB-E6D3EBB8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8990-90D0-4E0D-9E05-32118383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6FE98-B7BF-4F21-BDCE-C8E054D6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EECDA-4395-4D5E-A361-F2379816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BB9-99EE-4DCC-888B-EC7A4164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CE90C-2F86-4CA4-8548-88938B36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40538-6B49-4ED2-85FB-D097AE43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C0034-A2FA-4047-A3E3-74B1BB30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D24DA-A77C-4CDF-99DC-950F7886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026AA-7703-4607-AB1E-18A4334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D0343-A8BD-4437-B09C-8EB3000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E81B9-C226-4747-87B6-E194DE6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85E8B-BB50-4EB7-BA11-D0679D5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90AE9-84EF-43CB-A977-822822D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00F4D-B35E-45C9-9902-501EF6AE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EE1-8519-40B1-88AD-75476592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E5181-C2AA-45F0-B377-5D0F2EF1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769D9-DBDF-4B36-BD78-3DED160C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13968-D71D-4579-9404-59626512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9D9CF-172D-49E9-922D-F364DC3B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7F23B-7CA1-4AC6-B241-20B0512E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C2281-88E7-4AD4-857E-147F4161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9F1A9-9DD4-4F2E-B683-5E4A96D5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770FD-9BD3-41E4-8F78-3E296E3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FEA7E-804A-461E-8848-7BA6E92E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F1801-299D-40AE-8B79-B1FCD67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2436-FF5C-462D-B029-A528BE1E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11BBB-9672-4330-90D7-F9698093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91C74-6122-47BD-9543-34B13394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40894-98A9-44F7-857E-16D20BFA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BE770-B612-4DFE-B8E2-2FCD9DFF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8C493-CF46-40CD-B7B5-6909D552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2FAB9-ED4E-40CC-9771-6EE5E4A5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05DA0-42AB-429B-AB65-AF457FCE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8A8D9-7692-4FA5-B022-AA943060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872C5-E08C-4BF8-9317-08FD55F7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8FDD0-47F6-4D5C-97E1-0DDE2D6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CF4B-41FC-4092-A673-B59F78B5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3FB94-A9D1-4D69-B055-2637997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CC459-7185-47C2-A69C-5411D61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FB605-FBFD-4E56-9EB4-DE01C9D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6B594-A804-44BA-AFA0-849F6DAD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15F73-F938-4614-B44F-27941338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65E06-99D2-4DFA-BE03-C48D4D63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B7721-2482-4779-A1BF-6A1869F0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4FEA7-3044-450A-93B1-8E75DEE8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27F55-19F2-472C-9F42-6BFDDDE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AE098-1BCE-4A5B-8643-39AEF681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1B25-3015-4BE5-B198-BD9E7A1D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088CE-D371-441C-9A92-627A55D5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5BC32-3A63-4E27-9CB0-D8834063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3AB37-EDDA-4F6B-ACA1-F6232886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BF55A-8123-4E54-B95A-E7C5C545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B9628-9A6A-4F9A-B92A-A0CC79E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C360B-9484-45A1-AC98-CD71D502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11A2B-4696-4A57-B25E-5BCBA0B5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5D62A-B9D9-48DD-AB00-9936D29A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FAA9B-E4B3-4BA8-BA62-3130643E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6778F-7F96-4A21-9AD1-509B76F8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C3EA-561C-4F05-8BAE-9DB3E28F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02E2A-A2B4-4581-91E9-9B746CAF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5ADD6-93DD-4C19-B4CA-5989209B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A8AFB-776B-4C01-85BF-62E40A61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A76F4-AFB1-47CC-A218-3A5B582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12328-F572-41A2-A3CC-9F8F767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EEAA0-A675-418F-A0BB-8DFCB2D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864C4-8967-4C2B-80EF-D0242919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7F923-0C21-4857-8927-F38C0D19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607A9-E065-41DB-AC1F-685D8E5C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7C994-3D79-4C10-A463-9EF4CFAA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DA62-13C6-459C-B000-D7A2E11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C0CD0-9EBD-4EFD-8B56-01EE0BFE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84167-3728-4961-9319-C584F134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8D3F9-2804-440A-9070-0930230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2EB42-1FC8-4963-A0C2-0B829C41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4919B-A6D2-4E02-A904-E7041D75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E5749-D796-4654-8DD5-7F27CFEA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CBF0D-3FBD-476C-9FF0-67A4398A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97A9A-F7E5-4D49-AEF8-A0F9AE5B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424E3-5AE4-4588-8A58-1A9B9633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A2357-2FCC-40B4-A000-18AFB880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CA8C-23B8-44D8-9E7C-7C307DBD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4A304-12A5-4DC5-8A52-450E93D4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635A4-4B31-4C68-AC7B-DE1A22D6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C79F5-0C35-461E-A120-EF7D2D05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9B3A1-FD24-46F5-9D32-1377CCC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EA93C-7147-455B-A93F-F85D242B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C2A81-6B11-499A-812C-B54738B4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9B6DE-96AE-4CA5-A2D0-A61463FD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97058-6419-473B-86C6-0116093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6A72B-6F5D-40B8-94D9-D51DF90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290F1-8775-459B-81FA-A1CD7A39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D295-848F-416D-8F6A-250CE482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25A18-766D-4693-9A93-41DD9EAC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86573-3C0C-43C6-9818-878F27FD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BF85C-212A-4714-8DEC-D977E2F8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11DC4-5317-442D-A1C2-30AA35CD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B3748-7773-4B36-83C8-CAA49C44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C09F6-92B1-4298-9784-CE553E57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141540-A1EA-4647-83F1-7620B4AD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A570C-7E8A-4B0D-A7EC-673092B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B0F1C-C26F-4540-A431-12E6CCF4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94749-19AC-4AE0-A495-3286381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512-C5EA-466F-952B-CB52A121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AA4-443C-4E4B-8F47-E55F37E0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87FA0-00FC-4362-81EA-5F14D38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3E7A3-B1FC-4A06-B0DF-B6901F84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D044D-4752-469E-9052-6E3E44F8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0EC4A-773A-43B7-B817-0B3BD56B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261D9-2B24-45A9-A8B2-BF69210A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3A0B0-B758-4280-B208-B4CC95C8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7BCE7-9571-4B94-9C22-6352C276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38BA2-8F6D-486E-8CA6-FE1CC7E6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A9EFC-4EAF-4939-9C8E-C9CDD213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DF8D3-4820-4F53-82B2-EB48F68C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77EB-0D06-4539-9401-02E9C3C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18070-10F1-4C69-9972-5BD0992F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CCF89-6232-44BD-9479-062A8122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56D46-4CA5-46C2-94CA-428CDEB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FA003-3085-4A93-AD1F-2DBDD8F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5E865-FED1-4A2D-80C7-40160356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B99DE-0240-4C4C-A8C9-3A04871A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FCE03-D486-4820-B58A-C034EB97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8B7A7-D4BC-431F-9E1F-476DA999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917F9-1584-4733-A08D-2BD661A7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23C3E-B6D3-4384-BAD6-58C1C848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1023-1C5F-474A-8351-2DD5C671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31993-F6DF-4E84-8AB7-75A1C2FA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8514EC-E59F-4BF7-9689-A8384A43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D9D62-CF9E-4AF5-9E24-06EE673E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6C719-6E28-4F17-ABFE-08CE9E7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0731F-7186-4B3B-9449-9E8D5FD0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33E73-D0AD-4EC3-8E71-77A12195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BEDA7-7C28-4809-A01D-E6543878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B3E8E7-A60A-4293-B89F-9C9F241A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F94E9-A987-452C-AD8A-6A7E83A9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DE789C-D8AD-4CAA-9E0A-CDC38632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4915-60CA-4294-9E95-46644BF4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305A5-59CE-4F4B-8E0B-41BE84AC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6FDF3-4805-4A8F-A366-351769E1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051D3-080F-4FE9-A6D4-A40A893E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81FA4-014B-4DC0-8C5C-FE245BD1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0598C-06EB-4613-A269-A21D3CBB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16524-C0B4-41CA-8065-162FBDE0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D419C-45CE-4DD6-9FC9-F6C6A02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C13F3-A7D4-41F5-B363-F453CAC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5E2BB9-308F-42CA-916B-8EE2A57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49CDB-0839-46A6-9018-0D35A4E9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859F-58E8-4E25-B362-6D3F2799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82BD2-5AF6-433B-B657-D9C0088E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2C8229-396B-401E-B136-85182A97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633D0-2848-4375-802F-EC099A89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045BE-0FFF-49AB-ABDA-79F4074E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4C5D84-5C8D-447B-9683-E738CD95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C7525-F474-4607-BC38-716E3C5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C523C7-C49F-4C19-B2D4-FA69F77C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B3DDD-8CA6-4D3F-AD0E-5C8C90C8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B20ADB-0413-40C7-BD1C-7922426E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AD953-1668-413B-BC1C-95B324E2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F7F8-7DD4-4853-8F13-21A9225A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D7B99-E7D7-4F73-A1DF-98159044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31B8E-8F3F-484F-8008-10B3BDB1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602FD-4132-4CEE-843E-78993CAB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0552-41F3-43AA-AD21-F80A70D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5460-5E3E-401D-BA25-21483D9D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CC81-9B94-40E7-BB0F-EC8FABCE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F826-AD52-42BD-9C4B-A096259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AB7-D875-4197-8219-771855A5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9874-52BD-47BB-BDB2-A31C0D3D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DD69-E898-4C71-BD26-2D11496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73D6-4394-4AFA-AD90-FEF202C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4F60-71DC-4604-971A-A97A24A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A75A-F199-4E3F-BD62-40CAAA86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866F-A2FC-4397-8A36-674A4C0E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8D8E-CEDF-4508-B238-8F842AA0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C37F-B5EC-4ADB-B22A-718F19F3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B000-239B-49C7-9ECE-A98BA970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1779-45D5-447D-A038-5FA7B597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2F9-86BC-41F8-84F0-71877FE6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BCF2-933C-438E-8447-7FFB40F2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74D9-E5DF-458A-AB7E-A3B585F1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0FDE-A79B-4507-AA8E-ABAD03F1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EFBD-C195-4546-80C6-4209DCA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9AFA-43D2-4501-86D4-9C5665B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273A-8136-4D1C-9F1A-F0B4AA51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3129-687B-493A-A395-37CADF99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EC843-A4A4-478A-977D-CF213A1D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ED59-C27E-42CD-BED3-0344A2A0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1176C-689D-4511-A99D-A6BB3AD9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157-E6AD-4D6B-8ECC-510B4280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311BB-D4E7-4053-84A2-8F0C54A1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4E26-7CB1-4A64-B530-7D14EC11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6DE9-8716-4DAD-AF5C-004E9BE5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9B0C0-2AE8-445C-AC01-61C1BD66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F549C-1A53-4684-B49B-7BA9751E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489D-D45A-4034-820F-2559D4D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C212-FCEF-4769-ADF4-8117440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7D6E6-98F9-467B-8447-F702F61F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7540-6F62-4CD4-AD0A-F5F127F4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529B-AC7C-4436-9324-CCEB1A3E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CC2-E482-42F0-9851-A2C30359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7F5C-9FF5-4C57-8911-4E58EBCA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D0B5E-D48D-43E8-81CC-777579AE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6A663-46D2-4A41-983A-45CC4E8A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F95AB-F2C6-49ED-8F3D-3A42208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8457-A679-4FC0-912E-CC3C84CA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E0D14-252A-4407-9BAA-1E213B4B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5DBC-5AA1-4D9B-8B7B-C17A3B1F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0F32-5704-44CE-BB0C-E790497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0AB3B-3D71-4288-8742-6F8B8935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70E5A-521D-478D-88DD-342F50E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5CA-AC03-4820-9833-BDF746BA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39BF-2282-4F19-9FF7-9EFF53E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D023-A93A-41C5-B5AF-21E25134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59F5-E1CC-440E-B13F-42F39FD0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AC101-8A8B-4528-A871-BAF25B7F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1133F-F2A1-4684-8BEF-C9E643D2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61CE5-A8B7-4DF3-981F-C6D0A0DE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0520-173E-4ECF-83D4-3C5F971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A5B8E-879A-4ADD-ABA8-3707ECFB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FA65-3E56-447F-9318-BB8FA77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A70B-4704-402F-BE97-71701A8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676-1BC9-4086-99B6-DA543791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87631-60D7-4D16-A89F-E707DE0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CA7A2-04FF-416E-A229-8114C5D7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04BBC-67D4-40D1-8B0E-6DA05F4F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7911E-9F75-4D69-AB91-99E89013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E51B0-D52A-4CE5-BE0B-92E60386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093B9-5FDD-47C7-A1BA-A4F9B93B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DC0A6-185C-4AC5-8212-46B1DC5A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CD55D-A6E7-4A47-9C46-EBE3B8BC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1BB8A-253F-4168-9E95-191DCDBD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D2EB2-C7E7-4A7A-ACDF-7061E76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FFF-3AD8-4134-B5B1-68F6AE3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DDE3E-1987-4108-884B-C4038378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C5F3E-F978-4FA6-A120-7002B9F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A56F9-0567-4FCB-ABB2-A470F29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6452F-F70F-4373-957D-17F0B98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4763C-5F35-4831-9B54-BBD3610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5F14-BAE3-4423-8313-8FC17AED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09F88-D926-4F9B-816E-AD3F8585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43DAE-7E2F-454C-BD08-2A65383B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C49C8-5E43-4E41-93CA-A873F739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D7DF5-56A7-4C8D-ACBA-D4B0CAA7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D0D5-1DF3-48D3-952C-C00F425B2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E029-D899-4655-B79B-004956BF44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1F32-DB31-4233-A537-653B748426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F4D7-F817-4180-84E2-6819CFB88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B8A3-2BC7-4CEB-AF3B-002541FB80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6F88-4B43-4999-911E-9AC2234313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82E-C1B8-4785-B2C4-4868C0A12B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4CF6-9827-4391-B32D-90A2899202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CD1B-5551-4DDC-9A14-38A856A7B4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AA22-1332-49A5-91E1-EDE02561AC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8444-2664-44C7-B5F1-5AC01FC73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5B36-9CD3-4525-9C5C-710CB87CF1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2A49-93D0-4D56-847A-E86BBA16F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92CF-5478-4F82-B74A-1D9F891ABF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1CA8-93FE-4F2C-9CDB-F404EE483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2004-61F4-4B3E-826B-B1ADE4D64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81ED-A14B-4D0F-A510-969A2D086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D692-1FC9-4CEE-AD6C-095FA0C78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B90C-3E23-42B9-9167-41E2C65AA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BC07-4E8D-40F4-AEB7-6F3A8F3BA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DA77-0D30-4EA2-A68C-26A3C9B03B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26F-E02D-47D2-914C-B85041069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1960-3515-4B03-BACC-1000126DC0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5831-268C-4506-AB1F-8832F6F22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192F-B61A-464E-B540-82CC46AF4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1932-851D-489D-BF0F-0DD0D4160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F8AC-BC1F-4646-A756-16ADFA273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4404-0B6D-45E7-A540-C973E3A04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31C0-A4F1-4938-ABDA-242C234D34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1BE6-2ABB-4B86-9CBB-19DED4DDB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1C6-1B31-4BF1-857C-D7A5F29E5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AB05-81EB-44AB-B39C-7D6E6A2AD0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1E2E-D9F9-4C0B-A461-03FB9E6E2A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0A78-5EFA-45BF-AEEE-1017A52742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A43-E1CB-4390-9518-21535E6BF3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42F-4F5A-490A-B9E5-E823689FA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D9F0-629C-4D6B-BDE3-D22E35063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D03A-7BC4-4716-989A-2D2906B26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D675-CDA2-4394-A4C7-66FBE6357F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9BDB-38BE-4299-989D-AFCF7A92A5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7280" y="3216240"/>
            <a:ext cx="8605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Picture 2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63080" cy="46198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1297080" cy="4381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4"/>
          <a:stretch/>
        </p:blipFill>
        <p:spPr>
          <a:xfrm>
            <a:off x="1403280" y="5300640"/>
            <a:ext cx="1297080" cy="438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5"/>
          <a:stretch/>
        </p:blipFill>
        <p:spPr>
          <a:xfrm>
            <a:off x="3203640" y="5321160"/>
            <a:ext cx="1297080" cy="43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6"/>
          <a:stretch/>
        </p:blipFill>
        <p:spPr>
          <a:xfrm>
            <a:off x="5076720" y="5321160"/>
            <a:ext cx="1295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47560" y="977760"/>
            <a:ext cx="8048880" cy="5619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4000680" y="2286000"/>
            <a:ext cx="4600440" cy="876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4600800" cy="8762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3286080" y="4022640"/>
            <a:ext cx="4600800" cy="8762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3746520" y="4879800"/>
            <a:ext cx="4600440" cy="876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3632040" y="5786280"/>
            <a:ext cx="460080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552600" y="1189080"/>
            <a:ext cx="8038800" cy="5048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3132000" y="3213000"/>
            <a:ext cx="7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3294000" y="3833640"/>
            <a:ext cx="792360" cy="438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2411280" y="5084640"/>
            <a:ext cx="7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4356000" y="5732640"/>
            <a:ext cx="792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429680" cy="4400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79092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4140360" y="198900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3924360" y="321300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5"/>
          <a:stretch/>
        </p:blipFill>
        <p:spPr>
          <a:xfrm>
            <a:off x="3995640" y="5126040"/>
            <a:ext cx="1081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757080" y="1643040"/>
            <a:ext cx="7629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828720" y="1557360"/>
            <a:ext cx="7486560" cy="3743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2"/>
          <a:stretch/>
        </p:blipFill>
        <p:spPr>
          <a:xfrm>
            <a:off x="1332000" y="1608120"/>
            <a:ext cx="50328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3"/>
          <a:stretch/>
        </p:blipFill>
        <p:spPr>
          <a:xfrm>
            <a:off x="1332000" y="2270160"/>
            <a:ext cx="50328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4"/>
          <a:stretch/>
        </p:blipFill>
        <p:spPr>
          <a:xfrm>
            <a:off x="1332000" y="3495600"/>
            <a:ext cx="50328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5"/>
          <a:stretch/>
        </p:blipFill>
        <p:spPr>
          <a:xfrm>
            <a:off x="1332000" y="4143240"/>
            <a:ext cx="503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519120" y="893880"/>
            <a:ext cx="8105760" cy="58482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1908000" y="6237360"/>
            <a:ext cx="6480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766800" y="1228680"/>
            <a:ext cx="7610400" cy="51530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2"/>
          <a:stretch/>
        </p:blipFill>
        <p:spPr>
          <a:xfrm>
            <a:off x="1547640" y="3233880"/>
            <a:ext cx="648036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3"/>
          <a:stretch/>
        </p:blipFill>
        <p:spPr>
          <a:xfrm>
            <a:off x="1692360" y="5840280"/>
            <a:ext cx="648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2" descr=""/>
          <p:cNvPicPr/>
          <p:nvPr/>
        </p:nvPicPr>
        <p:blipFill>
          <a:blip r:embed="rId1"/>
          <a:stretch/>
        </p:blipFill>
        <p:spPr>
          <a:xfrm>
            <a:off x="471600" y="765000"/>
            <a:ext cx="8200800" cy="60105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93672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3"/>
          <a:stretch/>
        </p:blipFill>
        <p:spPr>
          <a:xfrm>
            <a:off x="3851280" y="2924280"/>
            <a:ext cx="936720" cy="43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4"/>
          <a:stretch/>
        </p:blipFill>
        <p:spPr>
          <a:xfrm>
            <a:off x="5724360" y="292428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5"/>
          <a:stretch/>
        </p:blipFill>
        <p:spPr>
          <a:xfrm>
            <a:off x="3276720" y="563076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6"/>
          <a:stretch/>
        </p:blipFill>
        <p:spPr>
          <a:xfrm>
            <a:off x="5364000" y="5630760"/>
            <a:ext cx="93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